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F2B61-6718-4D11-A371-CDFC2A87A1E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Buona apertura verso il cyborg. Distinguere le modifiche utilitaristiche da quelle estetiche success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enni sul tribalismo, distinzione tra significatività della pratica tradizionale e costruzione soggettiva di un’immagine/immaginario da comunic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hirurgia estetica: non solo adesione al modello, ma ripristino di caratteristiche perdute, sconfitta del tempo e dell’età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e scoperte di Pasteur vengono prese come conferma di questi principi e spostano l’attenzione sulla ricerca del singolo fattore responsabile di ogni malatt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l mito della performance; i farmaci per la performance: Viagra, cocaina, integrat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mportanza dei rapporti primari e del 2 step flow of 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dell’azione di Pareto, insufficienza dell’approccio razionalistico. Esempi: campagne contro il fumo, l’alcool, l’alta velocità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Modelli di successo, importanza dell’immagine, apertura su rapporti primari e retroazione su quanto detto sulla metropo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2DDF-771B-49DA-816A-4075CB9C1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E9DB-5CCD-4E8C-BD37-9AB76EB96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53FD-2A40-447E-94F6-66ACC7BB9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4F23-D302-4B0C-8532-DE97E1E8F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30481-F44B-450F-84C6-12DCB4797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747A4-EB3B-49D1-8E07-7E7D13F80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328FE-6B83-4A4D-AAF6-C3D00A49B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AE353-C665-4F70-805A-FF52BB9A1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69DDD-3285-4D6A-B0F3-FBD9D8592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8358D-F618-4990-A2C6-8A0C70AB3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B10E1-6B9D-43F7-BB18-63F161AD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F117-70E6-4087-A21B-260E5B8A4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DFBBA-B32A-4E1D-B7AB-06DF281D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02683-569D-4F7D-98E6-3BFCD01D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F80E2-EF19-499C-82CD-D06CC0AE8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22F1C-3658-4CA8-B4F8-11E376918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4B3CA-13F1-44DE-90A2-7DE1D086C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201A-2DE2-445B-B8AF-79D414E3D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C933-A73E-4868-BCAD-2E87245CC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F12C-12EB-4C67-9228-D9B3E5292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AE90-544B-403B-85BA-AEFA16ED1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3C99-19E7-4637-9B3E-9894B3FD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38DA-E1F9-447F-8F4F-5E357CC8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0093-494B-4D74-A83F-98E0FFED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C04D0-2B80-4CA1-A8E6-B722523EB910}" type="slidenum">
              <a:rPr b="0" lang="it-IT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1144D-8689-488B-A5EE-02C75BB671D0}" type="slidenum">
              <a:rPr b="0" lang="it-IT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000000"/>
                </a:solidFill>
                <a:latin typeface="Arial"/>
              </a:rPr>
              <a:t>Un approccio complesso alla salute e alla cu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abio D’And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aster in Management sanitario per le funzioni di coordi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.A. 2008/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200" spc="-1" strike="noStrike">
                <a:solidFill>
                  <a:srgbClr val="336666"/>
                </a:solidFill>
                <a:latin typeface="Arial"/>
              </a:rPr>
              <a:t>Il modello di success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3933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Salute</a:t>
            </a:r>
            <a:r>
              <a:rPr b="0" lang="it-IT" sz="2600" spc="-1" strike="noStrike">
                <a:solidFill>
                  <a:srgbClr val="000000"/>
                </a:solidFill>
                <a:latin typeface="Webdings"/>
                <a:ea typeface="Webdings"/>
              </a:rPr>
              <a:t>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normalità, efficienza, </a:t>
            </a:r>
            <a:r>
              <a:rPr b="0" i="1" lang="it-IT" sz="2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Forma fisica</a:t>
            </a:r>
            <a:r>
              <a:rPr b="0" lang="it-IT" sz="2600" spc="-1" strike="noStrike">
                <a:solidFill>
                  <a:srgbClr val="000000"/>
                </a:solidFill>
                <a:latin typeface="Webdings"/>
                <a:ea typeface="Webdings"/>
              </a:rPr>
              <a:t>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controllo, efficienza, </a:t>
            </a:r>
            <a:r>
              <a:rPr b="0" i="1" lang="it-IT" sz="2600" spc="-1" strike="noStrike">
                <a:solidFill>
                  <a:srgbClr val="000000"/>
                </a:solidFill>
                <a:latin typeface="Arial"/>
              </a:rPr>
              <a:t>performance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, immag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Bellezza</a:t>
            </a:r>
            <a:r>
              <a:rPr b="0" lang="it-IT" sz="2600" spc="-1" strike="noStrike">
                <a:solidFill>
                  <a:srgbClr val="000000"/>
                </a:solidFill>
                <a:latin typeface="Webdings"/>
                <a:ea typeface="Webdings"/>
              </a:rPr>
              <a:t>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immagine, rispondenza al can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105520" y="1413000"/>
            <a:ext cx="34290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6666"/>
                </a:solidFill>
                <a:latin typeface="Arial"/>
              </a:rPr>
              <a:t>Pratiche del corpo e immag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Chimica</a:t>
            </a:r>
            <a:r>
              <a:rPr b="0" lang="it-IT" sz="2600" spc="-1" strike="noStrike">
                <a:solidFill>
                  <a:srgbClr val="000000"/>
                </a:solidFill>
                <a:latin typeface="Webdings"/>
                <a:ea typeface="Webdings"/>
              </a:rPr>
              <a:t>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farmaci, drog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600" spc="-1" strike="noStrike">
                <a:solidFill>
                  <a:srgbClr val="000000"/>
                </a:solidFill>
                <a:latin typeface="Arial"/>
              </a:rPr>
              <a:t>Stretch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600" spc="-1" strike="noStrike">
                <a:solidFill>
                  <a:srgbClr val="000000"/>
                </a:solidFill>
                <a:latin typeface="Arial"/>
              </a:rPr>
              <a:t>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600" spc="-1" strike="noStrike">
                <a:solidFill>
                  <a:srgbClr val="000000"/>
                </a:solidFill>
                <a:latin typeface="Arial"/>
              </a:rPr>
              <a:t>Body Pierc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600" spc="-1" strike="noStrike">
                <a:solidFill>
                  <a:srgbClr val="000000"/>
                </a:solidFill>
                <a:latin typeface="Arial"/>
              </a:rPr>
              <a:t>Bran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Tatuagg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Scarificazion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Chirurgia estetica</a:t>
            </a:r>
            <a:r>
              <a:rPr b="0" lang="it-IT" sz="2600" spc="-1" strike="noStrike">
                <a:solidFill>
                  <a:srgbClr val="000000"/>
                </a:solidFill>
                <a:latin typeface="Webdings"/>
                <a:ea typeface="Webdings"/>
              </a:rPr>
              <a:t>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protes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03640" y="1484280"/>
            <a:ext cx="34880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200" spc="-1" strike="noStrike">
                <a:solidFill>
                  <a:srgbClr val="336666"/>
                </a:solidFill>
                <a:latin typeface="Arial"/>
              </a:rPr>
              <a:t>Il corpo in gioc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Ogni pratica sociale è una messa in gioco del corpo, non soltanto per l’uso del corpo-strumento da parte dell’uomo nel quotidiano, ma anche per l’effetto di senso che discende dagli usi corporei.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J.M. Berthelot,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Corps et société: Problèmes méthodolo-giques posés par une approche sociologique du corp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, in 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Sociologie des quotidienneté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, in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Cahiers internationaux de sociologi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, Vol. LXXIV,  p. 12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200" spc="-1" strike="noStrike">
                <a:solidFill>
                  <a:srgbClr val="336666"/>
                </a:solidFill>
                <a:latin typeface="Arial"/>
              </a:rPr>
              <a:t>Il sistema terapeutic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76000" y="206064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Articolazione della relazione tra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Intervento biologico (fisico, chimico e altr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Intervento antropologico e sociologico (psichico, simbolic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6666"/>
                </a:solidFill>
                <a:latin typeface="Arial"/>
              </a:rPr>
              <a:t>La malattia come proces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47640" y="206064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corpo, infatti, si relaziona attivamente ai pro-cessi della sua costruzione/costrizione, traducen-do e tradendo il rapporto fra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self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dividuale, gli assetti sociali in cui vive e le simbologie cultu-rali che organizzano il senso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. Quaranta (a cura di),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 Antropologia medica. I testi fondamental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Raffaello Cortina, Milano, 2006,  p. XI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336666"/>
                </a:solidFill>
                <a:latin typeface="Arial"/>
              </a:rPr>
              <a:t>L’interpretazione della malattia 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76000" y="21337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elle società tradizional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e cause della malattia possono essere di natura magica, naturale, emozionale, legate alle diverse espressioni di socialità; spesso anzi queste spiegazioni si sovrappon-gono e coesistono tra lor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questione del “come” eziologico-terapeutico è stret-tamente legata alla questione del “perché”, che è un “per-ché” rapportato alla soggettività del corpo malato. La malattia è il più individuale e il più sociale degli eventi (persona e collettività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diagnosi è costruita sull’insieme di dati empirici e meta-empirici e la terapia analogamente sulla risposta basata su dati empirici e metaempiric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336666"/>
                </a:solidFill>
                <a:latin typeface="Arial"/>
              </a:rPr>
              <a:t>L’interpretazione della malattia 2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76000" y="21337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Nella medicina occidentale e convenzional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la rappresentazione spaziale del corpo è legata all’at-tribuzione del dolore a un organo, ha una localizza-zione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nella bio-medicina si presta attenzione al processo patologico in atto, considerando la malattia provocata da agenti neutrali e pertanto diagnosi e terapia si basano su dati empirici e sulla risposta empirica ai dati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È tuttavia essenziale ricordare che le relazioni fra il corpo e il sistema delle cure non sono dicotomiche (sano/malato), poiché il corpo ha più dimensioni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200" spc="-1" strike="noStrike">
                <a:solidFill>
                  <a:srgbClr val="336666"/>
                </a:solidFill>
                <a:latin typeface="Arial"/>
              </a:rPr>
              <a:t>Le nuove prospettiv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Farmacogenetica</a:t>
            </a:r>
            <a:r>
              <a:rPr b="0" lang="it-IT" sz="3200" spc="-1" strike="noStrike">
                <a:solidFill>
                  <a:srgbClr val="000000"/>
                </a:solidFill>
                <a:latin typeface="Webdings"/>
                <a:ea typeface="Webdings"/>
              </a:rPr>
              <a:t>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rapporto molecola-g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Farmacogenomica</a:t>
            </a:r>
            <a:r>
              <a:rPr b="0" lang="it-IT" sz="3200" spc="-1" strike="noStrike">
                <a:solidFill>
                  <a:srgbClr val="000000"/>
                </a:solidFill>
                <a:latin typeface="Webdings"/>
                <a:ea typeface="Webdings"/>
              </a:rPr>
              <a:t>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rapporto molecola-patrimonio gene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003640" y="1700280"/>
            <a:ext cx="373068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200" spc="-1" strike="noStrike">
                <a:solidFill>
                  <a:srgbClr val="336666"/>
                </a:solidFill>
                <a:latin typeface="Arial"/>
              </a:rPr>
              <a:t>Le certezze a rischi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476000" y="22050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In gioc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L’idea di universalità e generalità del farmaco e quindi del sap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Il primato della quantit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6666"/>
                </a:solidFill>
                <a:latin typeface="Arial"/>
              </a:rPr>
              <a:t>I 5 poli della relazione farmaco-perso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76000" y="206064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300" spc="-1" strike="noStrike">
                <a:solidFill>
                  <a:srgbClr val="000000"/>
                </a:solidFill>
                <a:latin typeface="Arial"/>
              </a:rPr>
              <a:t>Natura esterna</a:t>
            </a:r>
            <a:r>
              <a:rPr b="0" lang="it-IT" sz="2300" spc="-1" strike="noStrike">
                <a:solidFill>
                  <a:srgbClr val="000000"/>
                </a:solidFill>
                <a:latin typeface="Webdings"/>
                <a:ea typeface="Webdings"/>
              </a:rPr>
              <a:t>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natura sanante, natura morbigen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300" spc="-1" strike="noStrike">
                <a:solidFill>
                  <a:srgbClr val="000000"/>
                </a:solidFill>
                <a:latin typeface="Arial"/>
              </a:rPr>
              <a:t>Natura interna</a:t>
            </a:r>
            <a:r>
              <a:rPr b="0" lang="it-IT" sz="2300" spc="-1" strike="noStrike">
                <a:solidFill>
                  <a:srgbClr val="000000"/>
                </a:solidFill>
                <a:latin typeface="Webdings"/>
                <a:ea typeface="Webdings"/>
              </a:rPr>
              <a:t>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il corpo nella sua manifestazione fisic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300" spc="-1" strike="noStrike">
                <a:solidFill>
                  <a:srgbClr val="000000"/>
                </a:solidFill>
                <a:latin typeface="Arial"/>
              </a:rPr>
              <a:t>Sistema sociale</a:t>
            </a:r>
            <a:r>
              <a:rPr b="0" lang="it-IT" sz="2300" spc="-1" strike="noStrike">
                <a:solidFill>
                  <a:srgbClr val="000000"/>
                </a:solidFill>
                <a:latin typeface="Webdings"/>
                <a:ea typeface="Webdings"/>
              </a:rPr>
              <a:t>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apparato sanitario-assistenzial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300" spc="-1" strike="noStrike">
                <a:solidFill>
                  <a:srgbClr val="000000"/>
                </a:solidFill>
                <a:latin typeface="Arial"/>
              </a:rPr>
              <a:t>Sé</a:t>
            </a:r>
            <a:r>
              <a:rPr b="0" lang="it-IT" sz="2300" spc="-1" strike="noStrike">
                <a:solidFill>
                  <a:srgbClr val="000000"/>
                </a:solidFill>
                <a:latin typeface="Webdings"/>
                <a:ea typeface="Webdings"/>
              </a:rPr>
              <a:t>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la particolare esperienza e consapevolezza che caratterizza un individuo nel suo vivere da sano o nel suo sentirsi minacciato dal rischio di qualche malattia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300" spc="-1" strike="noStrike">
                <a:solidFill>
                  <a:srgbClr val="000000"/>
                </a:solidFill>
                <a:latin typeface="Arial"/>
              </a:rPr>
              <a:t>Mondi vitali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300" spc="-1" strike="noStrike">
                <a:solidFill>
                  <a:srgbClr val="000000"/>
                </a:solidFill>
                <a:latin typeface="Webdings"/>
                <a:ea typeface="Webdings"/>
              </a:rPr>
              <a:t>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l’insieme delle relazioni significative di tipo amicale e familiar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200" spc="-1" strike="noStrike">
                <a:solidFill>
                  <a:srgbClr val="006666"/>
                </a:solidFill>
                <a:latin typeface="Arial"/>
              </a:rPr>
              <a:t>La visione cartesian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6000" y="21337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’uomo si divide 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39840" indent="-252360">
              <a:spcBef>
                <a:spcPts val="7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Res cogit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39840" indent="-252360">
              <a:spcBef>
                <a:spcPts val="7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Res exten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corpo rientra nella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res extens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e si comporta in rigoroso accordo con le leggi della meccan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6666"/>
                </a:solidFill>
                <a:latin typeface="Arial"/>
              </a:rPr>
              <a:t>L’approccio meccanicist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9280" y="1905120"/>
            <a:ext cx="441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Il corpo è concepito come una macchina il cui buon funzionamento deriva dalla corretta interazione delle part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La cura tende a riportare ogni componente al funzionamento ottima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Salute = Massima prestazi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105520" y="1557360"/>
            <a:ext cx="34290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200" spc="-1" strike="noStrike">
                <a:solidFill>
                  <a:srgbClr val="336666"/>
                </a:solidFill>
                <a:latin typeface="Arial"/>
              </a:rPr>
              <a:t>L’approccio positivista 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n una visione statica della società, la dicotomia “fisiologico/patologico” viene declinata in “normale/patologico”. La devianza non è più alternativa, ma malattia</a:t>
            </a:r>
            <a:r>
              <a:rPr b="0" lang="it-IT" sz="3200" spc="-1" strike="noStrike">
                <a:solidFill>
                  <a:srgbClr val="000000"/>
                </a:solidFill>
                <a:latin typeface="Webdings"/>
                <a:ea typeface="Webdings"/>
              </a:rPr>
              <a:t>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giudizio di val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200" spc="-1" strike="noStrike">
                <a:solidFill>
                  <a:srgbClr val="336666"/>
                </a:solidFill>
                <a:latin typeface="Arial"/>
              </a:rPr>
              <a:t>L’approccio positivista 2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Questa metafora si inserisce in una visione organica della società. Ciò che è normale diviene così “naturale” e ciò che contrasta con le norme della società contrasta con la Natur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La salute diviene una metafora dell’ordine sociale e la cura una forma di controll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6666"/>
                </a:solidFill>
                <a:latin typeface="Arial"/>
              </a:rPr>
              <a:t>La quotidianità del farma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Automedicazione e autoprescrizi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Resistenza all’uso del farma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Mancata aderenza alle prescrizion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Mediazione di altre figure</a:t>
            </a:r>
            <a:r>
              <a:rPr b="0" lang="it-IT" sz="2600" spc="-1" strike="noStrike">
                <a:solidFill>
                  <a:srgbClr val="000000"/>
                </a:solidFill>
                <a:latin typeface="Webdings"/>
                <a:ea typeface="Webdings"/>
              </a:rPr>
              <a:t>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farmacis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Reti informali e parental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105520" y="1905120"/>
            <a:ext cx="3429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6666"/>
                </a:solidFill>
                <a:latin typeface="Arial"/>
              </a:rPr>
              <a:t>Le dimensioni del farma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medicinale, sia esso estratto vegetale o spe-cialità farmacologica, si presenta all’incrocio di più dimensioni: chi lo prepara deve seguire regole specifiche, chi lo dispensa deve possedere una determinata formazione ed una ‘ordinata’ pre-parazione richiesta dalla legge, chi lo usa lo carica di aspettative che solo in parte sono immedia-tamente collegate alla biologia perché, più spes-so, sono un effetto di particolari rappresentazioni socio-culturali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. Cipolla – A. Maturo,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La farmacia dei servizi. Un percorso verso la qualità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Milano, FrancoAngeli, 2001, p. 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6666"/>
                </a:solidFill>
                <a:latin typeface="Arial"/>
              </a:rPr>
              <a:t>I significati del farmac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Conoscenze scientifi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Realizzazione tecnolog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Aspettative magico-simboli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Prodotto econom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076720" y="1700280"/>
            <a:ext cx="3429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6666"/>
                </a:solidFill>
                <a:latin typeface="Arial"/>
              </a:rPr>
              <a:t>Le diverse motivazioni nel (non) uso del farma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31640" y="24210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Motivazioni medico-sanitarie</a:t>
            </a:r>
            <a:r>
              <a:rPr b="0" lang="it-IT" sz="2800" spc="-1" strike="noStrike">
                <a:solidFill>
                  <a:srgbClr val="000000"/>
                </a:solidFill>
                <a:latin typeface="Webdings"/>
                <a:ea typeface="Webdings"/>
              </a:rPr>
              <a:t>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malatt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Motivazioni economiche</a:t>
            </a:r>
            <a:r>
              <a:rPr b="0" lang="it-IT" sz="2800" spc="-1" strike="noStrike">
                <a:solidFill>
                  <a:srgbClr val="000000"/>
                </a:solidFill>
                <a:latin typeface="Webdings"/>
                <a:ea typeface="Webdings"/>
              </a:rPr>
              <a:t>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osto e/o 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Motivazioni magico-simboliche </a:t>
            </a:r>
            <a:r>
              <a:rPr b="0" lang="it-IT" sz="2800" spc="-1" strike="noStrike">
                <a:solidFill>
                  <a:srgbClr val="000000"/>
                </a:solidFill>
                <a:latin typeface="Webdings"/>
                <a:ea typeface="Webdings"/>
              </a:rPr>
              <a:t>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pazio domes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Motivazioni sociali</a:t>
            </a:r>
            <a:r>
              <a:rPr b="0" lang="it-IT" sz="2800" spc="-1" strike="noStrike">
                <a:solidFill>
                  <a:srgbClr val="000000"/>
                </a:solidFill>
                <a:latin typeface="Webdings"/>
                <a:ea typeface="Webdings"/>
              </a:rPr>
              <a:t>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modello di succes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3T16:35:00Z</dcterms:created>
  <dc:creator>Fabio D'Andrea</dc:creator>
  <dc:description/>
  <cp:keywords/>
  <dc:language>en-US</dc:language>
  <cp:lastModifiedBy>Fabio D'Andrea</cp:lastModifiedBy>
  <dcterms:modified xsi:type="dcterms:W3CDTF">2008-09-28T16:37:00Z</dcterms:modified>
  <cp:revision>23</cp:revision>
  <dc:subject/>
  <dc:title>Un approccio complesso alla salute e alla cur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7991040</vt:lpwstr>
  </property>
</Properties>
</file>